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43C4E-0876-4AA5-9DA0-122EFD406FD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n Ways of Looking a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Re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obert Maya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partment of Math/CSci/Physic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irleigh Dickinson Univers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n Ways of Looking a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ay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artment of Math/CSci/Phys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irleigh Dickinson Un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2.  Real Numbers as a Linear Or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eal numbers form the unique linear order that i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n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thout endpoi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dekind-comple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parable (countable dense subse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2.  Real Numbers as a Linear Or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l numbers form the unique linear order that i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n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out end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dekind-comple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parable (countable dense subse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2.  Real Numbers as a Linear Or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slin Problem: Replace separability with the countable chain condi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y collection of disjoint nontrivial closed intervals is at most countab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es this characterize the real number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counterexample is called a Suslin l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xistence of Suslin lines are independent of the axioms of ZFC set theo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2.  Real Numbers as a Linear Or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slin Problem: Replace separability with the countable chain condi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 collection of disjoint nontrivial closed intervals is at most coun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es this characterize the real numb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ounterexample is called a Suslin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xistence of Suslin lines are independent of the axioms of ZFC set the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2.  Real Numbers as a Linear Or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eal numbers may be viewed as a space of branches of an infinite tre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ees are partial orders whose initial segments {x : X&lt;p} are well-ordered.  The branches are the maximal chains in the partial ord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erent infinite trees (Aronzsajn tree, Kurepa tree) give rise to different linear orders (Aronszajn line, Kurepa line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2.  Real Numbers as a Linear Or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l numbers may be viewed as a space of branches of an infinite tre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ees are partial orders whose initial segments {x : X&lt;p} are well-ordered.  The branches are the maximal chains in the partial ord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t infinite trees (Aronzsajn tree, Kurepa tree) give rise to different linear orders (Aronszajn line, Kurepa line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3.  Real Numbers as a Topological Sp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characterization of the usual topology of the real lin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X is a regular, separable, connected, locally connected space, in which every point is a cut point, then X is homeomorphic to the real lin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oint p in a connected space X is a cut-point if X\{p} is disconnect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other characterization:  Replace “regular” with “metrizable”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3.  Real Numbers as a Topological 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haracterization of the usual topology of the real lin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X is a regular, separable, connected, locally connected space, in which every point is a cut point, then X is homeomorphic to the real li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oint p in a connected space X is a cut-point if X\{p} is disconnec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other characterization:  Replace “regular” with “metrizable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3.  Real Numbers as a Topological Sp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eal numbers form a complete separable metric space, a “Polish space”.  Also, it is perfec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ther examples of perfect Polish spac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tor space: all sequences of 0’s and 1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ire space: all sequences of natur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nite/countable products of perfect Polish spa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y perfect Polish space is Borel-isomorphic to the real numb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3.  Real Numbers as a Topological 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l numbers form a complete separable metric space, a “Polish space”.  Also, it is perfe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examples of perfect Polish spac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tor space: all sequences of 0’s and 1’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ire space: all sequences of natur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te/countable products of perfect Polish spa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 perfect Polish space is Borel-isomorphic to the real numb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3.  Real Numbers as a Topological Sp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eal line is a one-dimensional topological manifol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assification of connected Hausdorff one-dimensional manifol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eal l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irc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ong l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open long r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3.  Real Numbers as a Topological 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l line is a one-dimensional topological manifol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ssification of connected Hausdorff one-dimensional manif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l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ir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ong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pen long r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4.  Real Numbers as a Completion of the Ration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valuation           is a function from a field to the nonnegative real numbers with properties analogous to a norm or absolute valu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4.  Real Numbers as a Completion of the Ration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valuation           is a function from a field to the nonnegative real numbers with properties analogous to a norm or absolute valu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4.  Real Numbers as a Completion of the Ration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wo valuations are equivalent if one is a power of the oth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y valuation is equivalent to one which satisfi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ch a valuation defines a metric on a field: the distance between a and b 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4.  Real Numbers as a Completion of the Ration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valuations are equivalent if one is a power of the ot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 valuation is equivalent to one which satisfi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h a valuation defines a metric on a field: the distance between a and b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4.  Real Numbers as a Completion of the Ration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strowski’s theorem:  The inequivalent valuations on the rational numbers are absolute value, the trivial valuation, and the p-adic valuations for every prime p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4.  Real Numbers as a Completion of the Ration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trowski’s theorem:  The inequivalent valuations on the rational numbers are absolute value, the trivial valuation, and the p-adic valuations for every prime 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4.  Real Numbers as a Completion of the Ration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etric completions of the rationals defined by a valuation ar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crete topology on Q  (with the trivial valuation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  (with absolute valu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p (the p-adic reals, with the p-adic valuation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4.  Real Numbers as a Completion of the Ration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etric completions of the rationals defined by a valuation ar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rete topology on Q  (with the trivial valua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  (with absolute val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p (the p-adic reals, with the p-adic valuation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arieties of Mathematical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ok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ference book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xt book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cture No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ndbooks and encyclopedi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rieties of Mathematical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erence boo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boo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cture No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books and encyclopedi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5.  The Real Numbers as a Fie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eal numbers form an ordered fiel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bfields of the real number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tion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l algebraic number fiel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utable re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structible re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lgebraic completion of the real numbers is the field of complex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5.  The Real Numbers as a Fie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l numbers form an ordered fiel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fields of the real number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ion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l algebraic number fie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utable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ructible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lgebraic completion of the real numbers is the field of complex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5.  The Real Numbers as a Fie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ield of real numbers is the prototypical real-closed field: its algebraic closure is a finite extens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rtin-Schreier theorem characterizes a real-closed field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has characteristic 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gebraic closure by adjoining i, where i2 = -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has a linear or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y positive number has a square roo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1 is not a sum of squar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5.  The Real Numbers as a Fie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eld of real numbers is the prototypical real-closed field: its algebraic closure is a finite extens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rtin-Schreier theorem characterizes a real-closed fiel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has characteristic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gebraic closure by adjoining i, where i2 = 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has a linear or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 positive number has a square r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 is not a sum of squa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5.  The Real Numbers as a Fie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y field is a vector space over a subfiel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eal numbers form a vector space over the rational numb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basis for this vector space is called a Hamel spa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5.  The Real Numbers as a Fie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y field is a vector space over a subfiel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l numbers form a vector space over the rational numb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asis for this vector space is called a Hamel spa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6.  The Real Numbers as an Algebr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what extent can the operations on the reals extend to finite-dimensional algebras over the real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re we list a few resul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6.  The Real Numbers as an Algeb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what extent can the operations on the reals extend to finite-dimensional algebras over the real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list a few resul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6.  The Real Numbers as an Algebr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inite-dimensional associative real division algebras are the real numbers, complex numbers, and the quaternions. (Frobeniu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inite-dimensional real commutative division algebras with unit are the real numbers and the complex numbers. (Hopf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inite-dimensional real division algebras have dimension 1, 2, 4, or 8.  (Kervaire, Milnor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6.  The Real Numbers as an Algeb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nite-dimensional associative real division algebras are the real numbers, complex numbers, and the quaternions. (Frobeniu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nite-dimensional real commutative division algebras with unit are the real numbers and the complex numbers. (Hopf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nite-dimensional real division algebras have dimension 1, 2, 4, or 8.  (Kervaire, Milno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7.  The Cardinal of the Re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tor showed that the real numbers are not equinumerous with the integ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rite      as the cardinal of the set of real numbers, the cardinal of the continuu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ontinuum Hypothesis:  Does             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7.  The Cardinal of the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tor showed that the real numbers are not equinumerous with the integ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     as the cardinal of the set of real numbers, the cardinal of the continuu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ntinuum Hypothesis:  Does              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7.  The Cardinal of the Re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ontinuum must satisfy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econd condition guarantees that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 much else restricts the possible values of the continuu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7.  The Cardinal of the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ntinuum must satisf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econd condition guarantees tha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much else restricts the possible values of the continuu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7.  The Cardinal of the Re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ston’s theorem:  Let     be any regular cardinal in the ground model of ZFC with cofinalit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n there is a generic extension which preserves cardinalities, in which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example, the continuum could b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7.  The Cardinal of the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ston’s theorem:  Let     be any regular cardinal in the ground model of ZFC with cofinalit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there is a generic extension which preserves cardinalities, in whic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xample, the continuum could 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7.  The Cardinal of the Re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variety of “cardinal invariants” of the continuum: cardinals between              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give two examples: the bounding number b, and the dominating number 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t f, g: N  N.  We say f dominates g iff f(n)≥g(n) for sufficiently large 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7.  The Cardinal of the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variety of “cardinal invariants” of the continuum: cardinals between              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give two examples: the bounding number b, and the dominating number 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f, g: N  N.  We say f dominates g iff f(n)≥g(n) for sufficiently large 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7.  The Cardinal of the Re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bounding number b: the minimum number of functions f such that no g dominates every f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ominating number d: the minimum number of functions f such that every g is dominated by a function f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7.  The Cardinal of the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ounding number b: the minimum number of functions f such that no g dominates every f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ominating number d: the minimum number of functions f such that every g is dominated by a function f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arieties of Mathematical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p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search pap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rvey art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llected work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line Resour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thSciN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line databa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-journ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rieties of Mathematical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p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earch pap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rvey artic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lected wor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line Re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hSci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line data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-journ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8.  Number Theoretic Classification of Re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tional numbers, algebraic numbers, transcendental numb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ouville’s theorem: numbers that can be very well approximated by rationals must be transcendent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, for infinitely many n, there is a rational such that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then α is transcendent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8.  Number Theoretic Classification of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ional numbers, algebraic numbers, transcendental numb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ouville’s theorem: numbers that can be very well approximated by rationals must be transcendent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, for infinitely many n, there is a rational such tha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then α is transcendent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8.  Number Theoretic Classification of Re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hler's classification of re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: algebraic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, T, U: classes of transcendent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oughly speaking, it measures how well can a number be approximated by algebraic numb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x, y are algebraically dependent, then x and y belong to the same Mahler clas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st real numbers are S-numbers by measure, U-numbers by categor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8.  Number Theoretic Classification of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hler's classification of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: algebraic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, T, U: classes of transcendent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ghly speaking, it measures how well can a number be approximated by algebraic numb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x, y are algebraically dependent, then x and y belong to the same Mahler cla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real numbers are S-numbers by measure, U-numbers by categ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9.  The Real Numbers as a First-Order Theo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rski's decidability theorem:  The first-order theory of real-closed fields is decidab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is an algorithmic procedure to determine if a first-order sentence about the real numbers in the language of ordered fields is true or false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9.  The Real Numbers as a First-Order The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rski's decidability theorem:  The first-order theory of real-closed fields is decid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is an algorithmic procedure to determine if a first-order sentence about the real numbers in the language of ordered fields is true or false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9.  The Real Numbers as a First-Order Theo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nstandard real numbers extend the real number system with infinitesimal numb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e construction is with an ultrapower of an first-order model of the real numbers, with all possible constants, predicates, and funct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y nonstandard real number may be written uniquely as a sum of a standard real number and an infinitesim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9.  The Real Numbers as a First-Order The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standard real numbers extend the real number system with infinitesimal numb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construction is with an ultrapower of an first-order model of the real numbers, with all possible constants, predicates, and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 nonstandard real number may be written uniquely as a sum of a standard real number and an infinitesim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10.  Surre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rreal numbers are a subclass of a class of finitely-move two-person gam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e development: a surreal is an ordinal-length sequence of +’s and –’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rreals are lexicographically ordered by -, (empty), +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rreal numbers, as a proper class, form an ordered fiel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eal numbers are a subfield of the surreals of order     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10.  Sur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rreal numbers are a subclass of a class of finitely-move two-person gam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development: a surreal is an ordinal-length sequence of +’s and –’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rreals are lexicographically ordered by -, (empty), +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urreal numbers, as a proper class, form an ordered fiel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l numbers are a subfield of the surreals of order     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10.  Surre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 of surreal numbers in order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-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+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1/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+-+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++++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10.  Sur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 of surreal numbers in ord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+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/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-+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+++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10.  Surre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rreals of order      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dyadic fra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rreals of order      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re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dyadic fra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10.  Sur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rreals of order      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dyadic fr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rreals of order      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dyadic fr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ny more views of the re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ometry axioms for the real l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l numbers as infinite continued fra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meration schemes for re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ternative foundations: constructivism, intuitionism, nonstandard set theo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utational approximations to real numbers: floating point numbers, interval arithmetic, and so 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more views of the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ometry axioms for the real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l numbers as infinite continued fr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eration schemes for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ternative foundations: constructivism, intuitionism, nonstandard set the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utational approximations to real numbers: floating point numbers, interval arithmetic, and so 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ny more views of the re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lexity and randomness measures on real numbers (for example, Turing degree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storical and philosophical perspectives: the real numbers as an idealization of a measurement, the meaning and use of infinitesimals, and so 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l numbers as a representation of an infinite sequence of Bernoulli tr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l numbers generated by formal languag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more views of the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xity and randomness measures on real numbers (for example, Turing degre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storical and philosophical perspectives: the real numbers as an idealization of a measurement, the meaning and use of infinitesimals, and so 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l numbers as a representation of an infinite sequence of Bernoulli tri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l numbers generated by formal langu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ny more views of the re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git patterns in real numbers, such as normal numb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l numbers as set-theoretic codes.  A real number may cod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cardinal collap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Borel s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countable model of set theo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strategy for an infinite two-person gam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more views of the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git patterns in real numbers, such as normal numb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l numbers as set-theoretic codes.  A real number may cod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ardinal collap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orel s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ountable model of set the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trategy for an infinite two-person ga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athematics Hypertext Project  (MHP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Web-based hypertext of mathematic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design paper describes goals, organization, technology issues, et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jodi.ecs.soton.ac.uk/Articles/v05/i01/Mayans/jod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rst release in June, 200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presentation discusses some of the pages on the re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athematics Hypertext Project  (MH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Web-based hypertext of mathema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design paper describes goals, organization, technology issues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jodi.ecs.soton.ac.uk/Articles/v05/i01/Mayans/jod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release in June, 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presentation discusses some of the pages on the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rganizing Multiple Theo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should the hypertext on real numbers be organize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ss than a grand all-encompassing archite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re that a simple listing of topics in unrelated slot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goal is a readable, searchable, general introduction to the real number syste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zing Multiple Theo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should the hypertext on real numbers be organiz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ss than a grand all-encompassing archite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that a simple listing of topics in unrelated slo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oal is a readable, searchable, general introduction to the real number 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rganizing Multiple Theo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must also show relationships across categori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must lead to more in-depth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must be in a form that is easy to update and exten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must help readers searching for a topi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zing Multiple Theo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must also show relationships across categ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must lead to more in-depth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must be in a form that is easy to update and ext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must help readers searching for a top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ypertext Structur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st text in this system is in one of two forms: “book text” and “core text”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ertext Struc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text in this system is in one of two forms: “book text” and “core text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ok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ok text gives an orderly development of mathematical idea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orter and more narrowly focused than most math book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orems, proof, definitions, examp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ther books attached in a tree-like structu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k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k text gives an orderly development of mathematical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rter and more narrowly focused than most math book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orems, proof, definitions, examp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books attached in a tree-like struct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e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ort, highly-linked texts, organized around a concept or metho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cursive, condensed discussions of a mathematical topi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views, surveys, summaries, leading to oth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lps the user navigate to other topic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ame topic may reappear in several core tex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e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rt, highly-linked texts, organized around a concept or meth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rsive, condensed discussions of a mathematical top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views, surveys, summaries, leading to other 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ps the user navigate to other topic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ame topic may reappear in several core tex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e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in ess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e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 ess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e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le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a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ts of Re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nctions of a Re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aria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e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s of Re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s of a Re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ri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e Text and Book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e Text and Book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thematics Hypertext Proje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rst step of a very long term projec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ed for contributors and collabora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oal is the building of large-scale structures of mathematical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hematics Hypertext Pro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step of a very long term proje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for contributors and collabor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al is the building of large-scale structures of mathematical 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xt on Re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aim for a “comprehensive introduction" to the real numb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l numbers are everywhere dense in mathematic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l numbers have different meanings in different contex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on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aim for a “comprehensive introduction" to the real numb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l numbers are everywhere dense in mathematic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l numbers have different meanings in different contex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xt on Re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to include on a text on real number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undations and construction of re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aracterizations of the real numbers by structu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tensions and substructures of the re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l numbers classified in different way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l numbers are a system related to other system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on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to include on a text on real numb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ndations and construction of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zations of the real numbers by struct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ensions and substructures of the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l numbers classified in different 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l numbers are a system related to other syste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1.  Foundations of the Real Number Syst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to define real numbers and their basic operations from rationals or integ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sentation of three metho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dekind cuts of ration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quivalence classes of Cauchy sequences of ration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se-10 digit sequen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1.  Foundations of the Real Number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to define real numbers and their basic operations from rationals or integ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ntation of three metho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dekind cuts of ration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uivalence classes of Cauchy sequences of ration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-10 digit sequ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1.  Foundations of the Re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cussion of foundations from John Conway, "On Numbers and Games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1.  Foundations of the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ion of foundations from John Conway, "On Numbers and Games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6D5C2-BE67-44BF-B89E-7E1EDA0A0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2C307-E055-48B4-9016-FD5A58BE0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271EB-9C71-49DB-83D5-3CE076173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A2350-FAB4-4222-AF21-B5E5DDA91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59E62-8B43-4B8B-8C09-E1638A89A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0E933-0379-4D60-887E-6568BE8DB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6EC33-0394-44C5-9BDC-FF9E03237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103CB-0989-4CDD-B308-24C806DF7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572EE-3348-488C-BCA9-6EF7C9B97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DB0AC-3216-4539-8FAA-C5F4034DB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2212F-155E-4B2C-8EB2-BDBA7C44C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8B4CD-0D5A-4B38-A8C1-ADEA16C2B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F6F9E-FC18-45BC-8284-C021D6151E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jodi.ecs.soton.ac.uk/Articles/v05/i01/Mayans/jodi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n Ways of Looking a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Real Numb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ert May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partment of Math/CSci/Phys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irleigh Dickinson Univers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2.  Real Numbers as a Linear Ord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al numbers form the unique linear order that 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out endpo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dekind-comple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parable (countable dense subs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2.  Real Numbers as a Linear Ord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slin Problem: Replace separability with the countable chain condi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y collection of disjoint nontrivial closed intervals is at most counta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this characterize the real numbe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counterexample is called a Suslin 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xistence of Suslin lines are independent of the axioms of ZFC set the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2.  Real Numbers as a Linear Ord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al numbers may be viewed as a space of branches of an infinite tre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ees are partial orders whose initial segments {x : X&lt;p} are well-ordered.  The branches are the maximal chains in the partial ord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erent infinite trees (Aronzsajn tree, Kurepa tree) give rise to different linear orders (Aronszajn line, Kurepa line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3.  Real Numbers as a Topological Spa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characterization of the usual topology of the real lin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X is a regular, separable, connected, locally connected space, in which every point is a cut point, then X is homeomorphic to the real li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oint p in a connected space X is a cut-point if X\{p} is disconnec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other characterization:  Replace “regular” with “metrizable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3.  Real Numbers as a Topological Spa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al numbers form a complete separable metric space, a “Polish space”.  Also, it is perfe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examples of perfect Polish spac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tor space: all sequences of 0’s and 1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ire space: all sequences of natural nu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ite/countable products of perfect Polish spa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y perfect Polish space is Borel-isomorphic to the real numb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3.  Real Numbers as a Topological Spa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al line is a one-dimensional topological manifol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ssification of connected Hausdorff one-dimensional manifol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al 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ir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long 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open long r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4.  Real Numbers as a Completion of the Rational Numb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valu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is a function from a field to the nonnegative real numbers with properties analogous to a norm or absolute valu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Object 4"/>
              <p:cNvSpPr txBox="1"/>
              <p:nvPr/>
            </p:nvSpPr>
            <p:spPr>
              <a:xfrm>
                <a:off x="2819520" y="1600200"/>
                <a:ext cx="838080" cy="45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ϕ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⋅</m:t>
                        </m:r>
                        <m:r>
                          <m:t xml:space="preserve">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Object 6"/>
              <p:cNvSpPr txBox="1"/>
              <p:nvPr/>
            </p:nvSpPr>
            <p:spPr>
              <a:xfrm>
                <a:off x="1219320" y="3352680"/>
                <a:ext cx="3886200" cy="144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ϕ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 iff </m:t>
                        </m:r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ϕ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  <m:r>
                              <m:t xml:space="preserve">⋅</m:t>
                            </m:r>
                            <m:r>
                              <m:t xml:space="preserve">b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ϕ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t xml:space="preserve">ϕ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e>
                      <m:e>
                        <m:r>
                          <m:t xml:space="preserve">ϕ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t xml:space="preserve">b</m:t>
                            </m:r>
                          </m:e>
                        </m:d>
                        <m:r>
                          <m:t xml:space="preserve">≤</m:t>
                        </m:r>
                        <m:r>
                          <m:t xml:space="preserve">C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ϕ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a</m:t>
                                </m:r>
                              </m:e>
                            </m:d>
                            <m:r>
                              <m:t xml:space="preserve">,</m:t>
                            </m:r>
                            <m:r>
                              <m:t xml:space="preserve">ϕ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b</m:t>
                                </m:r>
                              </m:e>
                            </m:d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4.  Real Numbers as a Completion of the Rational Numb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o valuations are equivalent if one is a power of the oth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y valuation is equivalent to one which satisfi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ch a valuation defines a metric on a field: the distance betwee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Object 6"/>
              <p:cNvSpPr txBox="1"/>
              <p:nvPr/>
            </p:nvSpPr>
            <p:spPr>
              <a:xfrm>
                <a:off x="2438280" y="3581280"/>
                <a:ext cx="25909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ϕ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</m:e>
                    </m:d>
                    <m:r>
                      <m:t xml:space="preserve">≤</m:t>
                    </m:r>
                    <m:r>
                      <m:t xml:space="preserve">ϕ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</m:e>
                    </m:d>
                    <m:r>
                      <m:t xml:space="preserve">+</m:t>
                    </m:r>
                    <m:r>
                      <m:t xml:space="preserve">ϕ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b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Object 8"/>
              <p:cNvSpPr txBox="1"/>
              <p:nvPr/>
            </p:nvSpPr>
            <p:spPr>
              <a:xfrm>
                <a:off x="5486400" y="4952880"/>
                <a:ext cx="29718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ϕ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  <m:r>
                          <m:t xml:space="preserve">−</m:t>
                        </m:r>
                        <m:r>
                          <m:t xml:space="preserve">b</m:t>
                        </m:r>
                      </m:e>
                    </m:d>
                    <m:r>
                      <m:t xml:space="preserve">=</m:t>
                    </m:r>
                    <m:r>
                      <m:t xml:space="preserve">ϕ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4.  Real Numbers as a Completion of the Rational Numb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trowski’s theorem:  The inequivalent valuations on the rational numbers are absolute value, the trivial valuation, and the p-adic valuations for every prime 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4.  Real Numbers as a Completion of the Rational Numb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240" y="175248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etric completions of the rationals defined by a valuation a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rete topology o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Q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(with the trivial valu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(with absolute valu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the p-adic reals, with the p-adic valuation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rieties of Mathematical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erence boo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boo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cture No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ndbooks and encyclopedi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5.  The Real Numbers as a Fiel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al numbers form an ordered fiel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fields of the real number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tional nu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l algebraic number fiel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able real nu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uctible real nu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lgebraic completion of the real numbers is the field of complex nu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5.  The Real Numbers as a Fiel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ield of real numbers is the prototypical real-closed field: its algebraic closure is a finite extens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rtin-Schreier theorem characterizes a real-closed fiel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has characteristic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gebraic closure by adjoining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wher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has a linear or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 positive number has a square ro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 is not a sum of squa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5.  The Real Numbers as a Fiel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field is a vector space over a subfiel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al numbers form a vector space over the rational numb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basis for this vector space is called a Hamel spa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6.  The Real Numbers as an Algebr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what extent can the operations on the reals extend to finite-dimensional algebras over the real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we list a few resul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6.  The Real Numbers as an Algebr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inite-dimensional associative real division algebras are the real numbers, complex numbers, and the quaternions. (Frobeniu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inite-dimensional real commutative division algebras with unit are the real numbers and the complex numbers. (Hop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inite-dimensional real division algebras have dimension 1, 2, 4, or 8.  (Kervaire, Milno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7.  The Cardinal of the Real Numb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tor showed that the real numbers are not equinumerous with the integ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      as the cardinal of the set of real numbers, the cardinal of the continuu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ntinuum Hypothesis:  Does             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Object 4"/>
              <p:cNvSpPr txBox="1"/>
              <p:nvPr/>
            </p:nvSpPr>
            <p:spPr>
              <a:xfrm>
                <a:off x="6458040" y="3429000"/>
                <a:ext cx="11620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ℵ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" name="Object 6"/>
              <p:cNvSpPr txBox="1"/>
              <p:nvPr/>
            </p:nvSpPr>
            <p:spPr>
              <a:xfrm>
                <a:off x="1828800" y="2590920"/>
                <a:ext cx="53352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7.  The Cardinal of the Real Numb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ntinuum must satisf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econd condition guarantees tha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much else restricts the possible values of the continuu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Object 6"/>
              <p:cNvSpPr txBox="1"/>
              <p:nvPr/>
            </p:nvSpPr>
            <p:spPr>
              <a:xfrm>
                <a:off x="2666880" y="2057400"/>
                <a:ext cx="28958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&gt;</m:t>
                    </m:r>
                    <m:sSub>
                      <m:e>
                        <m:r>
                          <m:t xml:space="preserve">ℵ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cf</m:t>
                    </m:r>
                    <m:r>
                      <m:t xml:space="preserve">(</m:t>
                    </m:r>
                    <m:r>
                      <m:t xml:space="preserve">c</m:t>
                    </m:r>
                    <m:r>
                      <m:t xml:space="preserve">)</m:t>
                    </m:r>
                    <m:r>
                      <m:t xml:space="preserve">&gt;</m:t>
                    </m:r>
                    <m:sSub>
                      <m:e>
                        <m:r>
                          <m:t xml:space="preserve">ℵ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Object 8"/>
              <p:cNvSpPr txBox="1"/>
              <p:nvPr/>
            </p:nvSpPr>
            <p:spPr>
              <a:xfrm>
                <a:off x="7010280" y="2895480"/>
                <a:ext cx="990720" cy="5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c</m:t>
                        </m:r>
                      </m:e>
                      <m:sup>
                        <m:r>
                          <m:t xml:space="preserve">ω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7.  The Cardinal of the Real Numb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ston’s theorem:  Let     be any regular cardinal in the ground model of ZFC with cofinalit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n there is a generic extension which preserves cardinalities, in whic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xample, the continuum could 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Object 4"/>
              <p:cNvSpPr txBox="1"/>
              <p:nvPr/>
            </p:nvSpPr>
            <p:spPr>
              <a:xfrm>
                <a:off x="6019920" y="2895480"/>
                <a:ext cx="990360" cy="37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κ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Object 5"/>
              <p:cNvSpPr txBox="1"/>
              <p:nvPr/>
            </p:nvSpPr>
            <p:spPr>
              <a:xfrm>
                <a:off x="7467480" y="1905120"/>
                <a:ext cx="10670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ℵ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Object 6"/>
              <p:cNvSpPr txBox="1"/>
              <p:nvPr/>
            </p:nvSpPr>
            <p:spPr>
              <a:xfrm>
                <a:off x="914400" y="3809880"/>
                <a:ext cx="480060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ℵ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ℵ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…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ℵ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…</m:t>
                    </m:r>
                    <m:r>
                      <m:rPr>
                        <m:lit/>
                        <m:nor/>
                      </m:rPr>
                      <m:t xml:space="preserve"> but not </m:t>
                    </m:r>
                    <m:sSub>
                      <m:e>
                        <m:r>
                          <m:t xml:space="preserve">ℵ</m:t>
                        </m:r>
                      </m:e>
                      <m:sub>
                        <m:r>
                          <m:t xml:space="preserve">ω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Object 7"/>
              <p:cNvSpPr txBox="1"/>
              <p:nvPr/>
            </p:nvSpPr>
            <p:spPr>
              <a:xfrm>
                <a:off x="4495680" y="1600200"/>
                <a:ext cx="4572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κ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7.  The Cardinal of the Real Numb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variety of “cardinal invariants” of the continuum: cardinals between              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give two examples: the bounding numbe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and the dominating numbe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, 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N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.  We sa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ominat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f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(n)≥g(n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r sufficiently large 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Object 11"/>
              <p:cNvSpPr txBox="1"/>
              <p:nvPr/>
            </p:nvSpPr>
            <p:spPr>
              <a:xfrm>
                <a:off x="5715000" y="2057400"/>
                <a:ext cx="1447920" cy="47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ℵ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and 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7.  The Cardinal of the Real Numb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ounding numbe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the minimum number of function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ch that no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ominates e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dominating numbe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the minimum number of function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uch that e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dominated by a func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Object 4"/>
              <p:cNvSpPr txBox="1"/>
              <p:nvPr/>
            </p:nvSpPr>
            <p:spPr>
              <a:xfrm>
                <a:off x="914400" y="5029200"/>
                <a:ext cx="28195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ℵ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b</m:t>
                    </m:r>
                    <m:r>
                      <m:t xml:space="preserve">≤</m:t>
                    </m:r>
                    <m:r>
                      <m:t xml:space="preserve">d</m:t>
                    </m:r>
                    <m:r>
                      <m:t xml:space="preserve">≤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rieties of Mathematical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p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earch pap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rvey artic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ected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ine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thSci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ine datab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-journ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8.  Number Theoretic Classification of Real Numb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tional numbers, algebraic numbers, transcendental numb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ouville’s theorem: numbers that can be very well approximated by rationals must be transcendent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, for infinitely many n, there is a rational such tha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then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transcendent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Object 4"/>
              <p:cNvSpPr txBox="1"/>
              <p:nvPr/>
            </p:nvSpPr>
            <p:spPr>
              <a:xfrm>
                <a:off x="1752480" y="4952880"/>
                <a:ext cx="236232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α</m:t>
                        </m:r>
                        <m:r>
                          <m:t xml:space="preserve">−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p</m:t>
                            </m:r>
                          </m:num>
                          <m:den>
                            <m:r>
                              <m:t xml:space="preserve">q</m:t>
                            </m:r>
                          </m:den>
                        </m:f>
                      </m:e>
                    </m:d>
                    <m:r>
                      <m:t xml:space="preserve">&lt;</m:t>
                    </m:r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8.  Number Theoretic Classification of Real Numb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hler's classification of real nu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: algebraic nu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, T, U: classes of transcendental nu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ughly speaking, it measures how well can a number be approximated by algebraic numb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x, y are algebraically dependent, then x and y belong to the same Mahler cla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real numbers are S-numbers by measure, U-numbers by catego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9.  The Real Numbers as a First-Order Theo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rski's decidability theorem:  The first-order theory of real-closed fields is decida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is an algorithmic procedure to determine if a first-order sentence about the real numbers in the language of ordered fields is true or false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9.  The Real Numbers as a First-Order Theo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standard real numbers extend the real number system with infinitesimal numb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construction is with an ultrapower of an first-order model of the real numbers, with all possible constants, predicates, and fun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y nonstandard real number may be written uniquely as a sum of a standard real number and an infinitesim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10.  Surreal Numb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rreal numbers are a subclass of a class of finitely-move two-person gam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development: a surreal is an ordinal-length sequence of +’s and –’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rreals are lexicographically ordered by -, (empty), +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urreal numbers, as a proper class, form an ordered fiel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al numbers are a subfield of the surreals of order     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6" name="Object 4"/>
              <p:cNvSpPr txBox="1"/>
              <p:nvPr/>
            </p:nvSpPr>
            <p:spPr>
              <a:xfrm>
                <a:off x="2133720" y="5486400"/>
                <a:ext cx="60948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10.  Surreal Numb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 of surreal numbers in ord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r_ans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r_ansi"/>
              </a:rPr>
              <a:t>--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r_ans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r_ansi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r_ans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r_ansi"/>
              </a:rPr>
              <a:t>-+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1/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r_ans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r_ansi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r_ans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r_ans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r_ansi"/>
              </a:rPr>
              <a:t>+-+</a:t>
            </a:r>
            <a:r>
              <a:rPr b="0" lang="en-US" sz="2800" spc="-1" strike="noStrike">
                <a:solidFill>
                  <a:srgbClr val="000000"/>
                </a:solidFill>
                <a:latin typeface="r_ans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r_ans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r_ansi"/>
              </a:rPr>
              <a:t>+++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10.  Surreal Numb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rreals of order      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dyadic fr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rreals of order      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real nu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dyadic fr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" name="Object 4"/>
              <p:cNvSpPr txBox="1"/>
              <p:nvPr/>
            </p:nvSpPr>
            <p:spPr>
              <a:xfrm>
                <a:off x="3276720" y="1676520"/>
                <a:ext cx="6858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" name="Object 6"/>
              <p:cNvSpPr txBox="1"/>
              <p:nvPr/>
            </p:nvSpPr>
            <p:spPr>
              <a:xfrm>
                <a:off x="3276720" y="2971800"/>
                <a:ext cx="60948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Object 8"/>
              <p:cNvSpPr txBox="1"/>
              <p:nvPr/>
            </p:nvSpPr>
            <p:spPr>
              <a:xfrm>
                <a:off x="4495680" y="3886200"/>
                <a:ext cx="9907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±</m:t>
                    </m:r>
                    <m:r>
                      <m:t xml:space="preserve">1</m:t>
                    </m:r>
                    <m:r>
                      <m:t xml:space="preserve">/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Object 9"/>
              <p:cNvSpPr txBox="1"/>
              <p:nvPr/>
            </p:nvSpPr>
            <p:spPr>
              <a:xfrm>
                <a:off x="1447920" y="4495680"/>
                <a:ext cx="5331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±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ny more views of the real numb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ometry axioms for the real 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l numbers as infinite continued fr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ation schemes for real nu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ternative foundations: constructivism, intuitionism, nonstandard set the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ational approximations to real numbers: floating point numbers, interval arithmetic, and so 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ny more views of the real numb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exity and randomness measures on real numbers (for example, Turing degre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storical and philosophical perspectives: the real numbers as an idealization of a measurement, the meaning and use of infinitesimals, and so 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l numbers as a representation of an infinite sequence of Bernoulli tr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l numbers generated by formal languag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ny more views of the real numb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git patterns in real numbers, such as normal numb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l numbers as set-theoretic codes.  A real number may cod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cardinal collap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Borel 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countable model of set the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trategy for an infinite two-person ga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Mathematics Hypertext Project  (MHP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2285640"/>
            <a:ext cx="838188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Web-based hypertext of mathema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design paper describes goals, organization, technology issues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jodi.ecs.soton.ac.uk/Articles/v05/i01/Mayans/jodi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release in June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presentation discusses some of the pages on the real nu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ganizing Multiple Theor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should the hypertext on real numbers be organiz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ss than a grand all-encompassing archit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that a simple listing of topics in unrelated slot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oal is a readable, searchable, general introduction to the real number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ganizing Multiple Theor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must also show relationships across categor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must lead to more in-depth 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must be in a form that is easy to update and exte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must help readers searching for a topi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ertext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text in this system is in one of two forms: “book text” and “core text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ok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k text gives an orderly development of mathematical ide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rter and more narrowly focused than most math book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orems, proof, definitions, examp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books attached in a tree-like struct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r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rt, highly-linked texts, organized around a concept or 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ursive, condensed discussions of a mathematical top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views, surveys, summaries, leading to other tex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lps the user navigate to other topic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ame topic may reappear in several core tex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r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4"/>
          <p:cNvSpPr/>
          <p:nvPr/>
        </p:nvSpPr>
        <p:spPr>
          <a:xfrm>
            <a:off x="3581280" y="2286000"/>
            <a:ext cx="914400" cy="38098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5"/>
          <p:cNvSpPr/>
          <p:nvPr/>
        </p:nvSpPr>
        <p:spPr>
          <a:xfrm>
            <a:off x="3429000" y="1523880"/>
            <a:ext cx="12952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umb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Oval 6"/>
          <p:cNvSpPr/>
          <p:nvPr/>
        </p:nvSpPr>
        <p:spPr>
          <a:xfrm>
            <a:off x="2819520" y="2895480"/>
            <a:ext cx="533160" cy="533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Oval 7"/>
          <p:cNvSpPr/>
          <p:nvPr/>
        </p:nvSpPr>
        <p:spPr>
          <a:xfrm>
            <a:off x="1371600" y="1371600"/>
            <a:ext cx="5715000" cy="53341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8"/>
          <p:cNvSpPr/>
          <p:nvPr/>
        </p:nvSpPr>
        <p:spPr>
          <a:xfrm>
            <a:off x="3352680" y="3124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Oval 9"/>
          <p:cNvSpPr/>
          <p:nvPr/>
        </p:nvSpPr>
        <p:spPr>
          <a:xfrm>
            <a:off x="2743200" y="3733920"/>
            <a:ext cx="533520" cy="5331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10"/>
          <p:cNvSpPr/>
          <p:nvPr/>
        </p:nvSpPr>
        <p:spPr>
          <a:xfrm>
            <a:off x="3276720" y="39625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Oval 11"/>
          <p:cNvSpPr/>
          <p:nvPr/>
        </p:nvSpPr>
        <p:spPr>
          <a:xfrm>
            <a:off x="2743200" y="4724280"/>
            <a:ext cx="533520" cy="533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12"/>
          <p:cNvSpPr/>
          <p:nvPr/>
        </p:nvSpPr>
        <p:spPr>
          <a:xfrm>
            <a:off x="3276720" y="49528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Oval 13"/>
          <p:cNvSpPr/>
          <p:nvPr/>
        </p:nvSpPr>
        <p:spPr>
          <a:xfrm>
            <a:off x="1905120" y="3352680"/>
            <a:ext cx="533160" cy="533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14"/>
          <p:cNvSpPr/>
          <p:nvPr/>
        </p:nvSpPr>
        <p:spPr>
          <a:xfrm>
            <a:off x="2438280" y="3581280"/>
            <a:ext cx="38124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Oval 15"/>
          <p:cNvSpPr/>
          <p:nvPr/>
        </p:nvSpPr>
        <p:spPr>
          <a:xfrm>
            <a:off x="1828800" y="4191120"/>
            <a:ext cx="533520" cy="5331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16"/>
          <p:cNvSpPr/>
          <p:nvPr/>
        </p:nvSpPr>
        <p:spPr>
          <a:xfrm flipV="1">
            <a:off x="2362320" y="411444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Oval 17"/>
          <p:cNvSpPr/>
          <p:nvPr/>
        </p:nvSpPr>
        <p:spPr>
          <a:xfrm>
            <a:off x="4724280" y="2438280"/>
            <a:ext cx="533520" cy="533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18"/>
          <p:cNvSpPr/>
          <p:nvPr/>
        </p:nvSpPr>
        <p:spPr>
          <a:xfrm flipH="1">
            <a:off x="4419720" y="2819520"/>
            <a:ext cx="380880" cy="304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Oval 19"/>
          <p:cNvSpPr/>
          <p:nvPr/>
        </p:nvSpPr>
        <p:spPr>
          <a:xfrm>
            <a:off x="5867280" y="3581280"/>
            <a:ext cx="533520" cy="533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20"/>
          <p:cNvSpPr/>
          <p:nvPr/>
        </p:nvSpPr>
        <p:spPr>
          <a:xfrm>
            <a:off x="5486400" y="38098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Oval 21"/>
          <p:cNvSpPr/>
          <p:nvPr/>
        </p:nvSpPr>
        <p:spPr>
          <a:xfrm>
            <a:off x="5486400" y="4419720"/>
            <a:ext cx="533520" cy="5331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22"/>
          <p:cNvSpPr/>
          <p:nvPr/>
        </p:nvSpPr>
        <p:spPr>
          <a:xfrm flipH="1" flipV="1">
            <a:off x="5333760" y="411480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Oval 23"/>
          <p:cNvSpPr/>
          <p:nvPr/>
        </p:nvSpPr>
        <p:spPr>
          <a:xfrm>
            <a:off x="4952880" y="3581280"/>
            <a:ext cx="533520" cy="533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24"/>
          <p:cNvSpPr/>
          <p:nvPr/>
        </p:nvSpPr>
        <p:spPr>
          <a:xfrm>
            <a:off x="4495680" y="38098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25"/>
          <p:cNvSpPr/>
          <p:nvPr/>
        </p:nvSpPr>
        <p:spPr>
          <a:xfrm flipH="1">
            <a:off x="1676160" y="5105520"/>
            <a:ext cx="10666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26"/>
          <p:cNvSpPr/>
          <p:nvPr/>
        </p:nvSpPr>
        <p:spPr>
          <a:xfrm flipH="1" flipV="1">
            <a:off x="1218960" y="3048120"/>
            <a:ext cx="685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27"/>
          <p:cNvSpPr/>
          <p:nvPr/>
        </p:nvSpPr>
        <p:spPr>
          <a:xfrm>
            <a:off x="6400800" y="38098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28"/>
          <p:cNvSpPr/>
          <p:nvPr/>
        </p:nvSpPr>
        <p:spPr>
          <a:xfrm>
            <a:off x="5867280" y="4952880"/>
            <a:ext cx="114300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30"/>
          <p:cNvSpPr/>
          <p:nvPr/>
        </p:nvSpPr>
        <p:spPr>
          <a:xfrm>
            <a:off x="5029200" y="2971800"/>
            <a:ext cx="1522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31"/>
          <p:cNvSpPr/>
          <p:nvPr/>
        </p:nvSpPr>
        <p:spPr>
          <a:xfrm>
            <a:off x="2286000" y="4648320"/>
            <a:ext cx="533520" cy="152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32"/>
          <p:cNvSpPr/>
          <p:nvPr/>
        </p:nvSpPr>
        <p:spPr>
          <a:xfrm>
            <a:off x="3505320" y="5943600"/>
            <a:ext cx="12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in ess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r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4"/>
          <p:cNvSpPr/>
          <p:nvPr/>
        </p:nvSpPr>
        <p:spPr>
          <a:xfrm>
            <a:off x="4191120" y="2133720"/>
            <a:ext cx="13716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umb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6"/>
          <p:cNvSpPr/>
          <p:nvPr/>
        </p:nvSpPr>
        <p:spPr>
          <a:xfrm>
            <a:off x="3962520" y="1676520"/>
            <a:ext cx="1904760" cy="17524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30"/>
          <p:cNvSpPr/>
          <p:nvPr/>
        </p:nvSpPr>
        <p:spPr>
          <a:xfrm>
            <a:off x="4114800" y="5105520"/>
            <a:ext cx="13716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l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umb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Oval 31"/>
          <p:cNvSpPr/>
          <p:nvPr/>
        </p:nvSpPr>
        <p:spPr>
          <a:xfrm>
            <a:off x="685800" y="4038480"/>
            <a:ext cx="1905120" cy="17528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32"/>
          <p:cNvSpPr/>
          <p:nvPr/>
        </p:nvSpPr>
        <p:spPr>
          <a:xfrm>
            <a:off x="6019920" y="3429000"/>
            <a:ext cx="13716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33"/>
          <p:cNvSpPr/>
          <p:nvPr/>
        </p:nvSpPr>
        <p:spPr>
          <a:xfrm>
            <a:off x="1295280" y="1981080"/>
            <a:ext cx="16002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ts of Re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umb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34"/>
          <p:cNvSpPr/>
          <p:nvPr/>
        </p:nvSpPr>
        <p:spPr>
          <a:xfrm>
            <a:off x="457200" y="4495680"/>
            <a:ext cx="23623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unctions of a Re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ri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Oval 35"/>
          <p:cNvSpPr/>
          <p:nvPr/>
        </p:nvSpPr>
        <p:spPr>
          <a:xfrm>
            <a:off x="5715000" y="2971800"/>
            <a:ext cx="1905120" cy="17524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Oval 36"/>
          <p:cNvSpPr/>
          <p:nvPr/>
        </p:nvSpPr>
        <p:spPr>
          <a:xfrm>
            <a:off x="3886200" y="4648320"/>
            <a:ext cx="1905120" cy="17524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Oval 37"/>
          <p:cNvSpPr/>
          <p:nvPr/>
        </p:nvSpPr>
        <p:spPr>
          <a:xfrm>
            <a:off x="1143000" y="1523880"/>
            <a:ext cx="1905120" cy="17528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Oval 38"/>
          <p:cNvSpPr/>
          <p:nvPr/>
        </p:nvSpPr>
        <p:spPr>
          <a:xfrm>
            <a:off x="1143000" y="228600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Oval 39"/>
          <p:cNvSpPr/>
          <p:nvPr/>
        </p:nvSpPr>
        <p:spPr>
          <a:xfrm>
            <a:off x="4267080" y="19810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Oval 40"/>
          <p:cNvSpPr/>
          <p:nvPr/>
        </p:nvSpPr>
        <p:spPr>
          <a:xfrm>
            <a:off x="5486400" y="236232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Oval 41"/>
          <p:cNvSpPr/>
          <p:nvPr/>
        </p:nvSpPr>
        <p:spPr>
          <a:xfrm>
            <a:off x="4419720" y="297180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Oval 42"/>
          <p:cNvSpPr/>
          <p:nvPr/>
        </p:nvSpPr>
        <p:spPr>
          <a:xfrm>
            <a:off x="5943600" y="365760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Oval 43"/>
          <p:cNvSpPr/>
          <p:nvPr/>
        </p:nvSpPr>
        <p:spPr>
          <a:xfrm>
            <a:off x="6248520" y="434340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Oval 44"/>
          <p:cNvSpPr/>
          <p:nvPr/>
        </p:nvSpPr>
        <p:spPr>
          <a:xfrm>
            <a:off x="7238880" y="419112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Oval 45"/>
          <p:cNvSpPr/>
          <p:nvPr/>
        </p:nvSpPr>
        <p:spPr>
          <a:xfrm>
            <a:off x="6705720" y="304812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46"/>
          <p:cNvSpPr/>
          <p:nvPr/>
        </p:nvSpPr>
        <p:spPr>
          <a:xfrm>
            <a:off x="2666880" y="236232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l 47"/>
          <p:cNvSpPr/>
          <p:nvPr/>
        </p:nvSpPr>
        <p:spPr>
          <a:xfrm>
            <a:off x="1447920" y="434340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l 48"/>
          <p:cNvSpPr/>
          <p:nvPr/>
        </p:nvSpPr>
        <p:spPr>
          <a:xfrm>
            <a:off x="1981080" y="533412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Oval 49"/>
          <p:cNvSpPr/>
          <p:nvPr/>
        </p:nvSpPr>
        <p:spPr>
          <a:xfrm>
            <a:off x="4267080" y="487692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Oval 50"/>
          <p:cNvSpPr/>
          <p:nvPr/>
        </p:nvSpPr>
        <p:spPr>
          <a:xfrm>
            <a:off x="4114800" y="533412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Oval 51"/>
          <p:cNvSpPr/>
          <p:nvPr/>
        </p:nvSpPr>
        <p:spPr>
          <a:xfrm>
            <a:off x="5257800" y="58672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Oval 52"/>
          <p:cNvSpPr/>
          <p:nvPr/>
        </p:nvSpPr>
        <p:spPr>
          <a:xfrm>
            <a:off x="4876920" y="601992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Oval 53"/>
          <p:cNvSpPr/>
          <p:nvPr/>
        </p:nvSpPr>
        <p:spPr>
          <a:xfrm>
            <a:off x="1828800" y="15238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Oval 54"/>
          <p:cNvSpPr/>
          <p:nvPr/>
        </p:nvSpPr>
        <p:spPr>
          <a:xfrm>
            <a:off x="1981080" y="304812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Oval 55"/>
          <p:cNvSpPr/>
          <p:nvPr/>
        </p:nvSpPr>
        <p:spPr>
          <a:xfrm>
            <a:off x="2819520" y="19810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re Text and Book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8"/>
          <p:cNvSpPr/>
          <p:nvPr/>
        </p:nvSpPr>
        <p:spPr>
          <a:xfrm>
            <a:off x="2209680" y="1905120"/>
            <a:ext cx="533520" cy="144756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9"/>
          <p:cNvSpPr/>
          <p:nvPr/>
        </p:nvSpPr>
        <p:spPr>
          <a:xfrm rot="1200000">
            <a:off x="1904760" y="3352320"/>
            <a:ext cx="533160" cy="14479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10"/>
          <p:cNvSpPr/>
          <p:nvPr/>
        </p:nvSpPr>
        <p:spPr>
          <a:xfrm rot="19800000">
            <a:off x="3200040" y="3124080"/>
            <a:ext cx="533520" cy="26672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11"/>
          <p:cNvSpPr/>
          <p:nvPr/>
        </p:nvSpPr>
        <p:spPr>
          <a:xfrm rot="20700000">
            <a:off x="5851080" y="1885680"/>
            <a:ext cx="533520" cy="373356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12"/>
          <p:cNvSpPr/>
          <p:nvPr/>
        </p:nvSpPr>
        <p:spPr>
          <a:xfrm rot="1200000">
            <a:off x="5562360" y="5105520"/>
            <a:ext cx="533160" cy="144756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13"/>
          <p:cNvSpPr/>
          <p:nvPr/>
        </p:nvSpPr>
        <p:spPr>
          <a:xfrm rot="18900000">
            <a:off x="7010280" y="2438280"/>
            <a:ext cx="533520" cy="26672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14"/>
          <p:cNvSpPr/>
          <p:nvPr/>
        </p:nvSpPr>
        <p:spPr>
          <a:xfrm>
            <a:off x="7772400" y="4800600"/>
            <a:ext cx="533520" cy="14479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Oval 15"/>
          <p:cNvSpPr/>
          <p:nvPr/>
        </p:nvSpPr>
        <p:spPr>
          <a:xfrm>
            <a:off x="1752480" y="19810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Oval 16"/>
          <p:cNvSpPr/>
          <p:nvPr/>
        </p:nvSpPr>
        <p:spPr>
          <a:xfrm>
            <a:off x="2057400" y="144792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Oval 17"/>
          <p:cNvSpPr/>
          <p:nvPr/>
        </p:nvSpPr>
        <p:spPr>
          <a:xfrm>
            <a:off x="3048120" y="15238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Oval 18"/>
          <p:cNvSpPr/>
          <p:nvPr/>
        </p:nvSpPr>
        <p:spPr>
          <a:xfrm>
            <a:off x="990720" y="251460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Oval 19"/>
          <p:cNvSpPr/>
          <p:nvPr/>
        </p:nvSpPr>
        <p:spPr>
          <a:xfrm>
            <a:off x="2895480" y="236232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Oval 20"/>
          <p:cNvSpPr/>
          <p:nvPr/>
        </p:nvSpPr>
        <p:spPr>
          <a:xfrm>
            <a:off x="6477120" y="22096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Oval 21"/>
          <p:cNvSpPr/>
          <p:nvPr/>
        </p:nvSpPr>
        <p:spPr>
          <a:xfrm>
            <a:off x="4191120" y="419112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Oval 22"/>
          <p:cNvSpPr/>
          <p:nvPr/>
        </p:nvSpPr>
        <p:spPr>
          <a:xfrm>
            <a:off x="3733920" y="35812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Oval 23"/>
          <p:cNvSpPr/>
          <p:nvPr/>
        </p:nvSpPr>
        <p:spPr>
          <a:xfrm>
            <a:off x="5029200" y="182880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Oval 24"/>
          <p:cNvSpPr/>
          <p:nvPr/>
        </p:nvSpPr>
        <p:spPr>
          <a:xfrm>
            <a:off x="3352680" y="28954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Oval 25"/>
          <p:cNvSpPr/>
          <p:nvPr/>
        </p:nvSpPr>
        <p:spPr>
          <a:xfrm>
            <a:off x="5257800" y="480060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Oval 26"/>
          <p:cNvSpPr/>
          <p:nvPr/>
        </p:nvSpPr>
        <p:spPr>
          <a:xfrm>
            <a:off x="5410080" y="434340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Oval 27"/>
          <p:cNvSpPr/>
          <p:nvPr/>
        </p:nvSpPr>
        <p:spPr>
          <a:xfrm>
            <a:off x="1676520" y="35812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Oval 28"/>
          <p:cNvSpPr/>
          <p:nvPr/>
        </p:nvSpPr>
        <p:spPr>
          <a:xfrm>
            <a:off x="1600200" y="320040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Oval 29"/>
          <p:cNvSpPr/>
          <p:nvPr/>
        </p:nvSpPr>
        <p:spPr>
          <a:xfrm>
            <a:off x="4267080" y="15238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Oval 30"/>
          <p:cNvSpPr/>
          <p:nvPr/>
        </p:nvSpPr>
        <p:spPr>
          <a:xfrm>
            <a:off x="3429000" y="19810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Oval 31"/>
          <p:cNvSpPr/>
          <p:nvPr/>
        </p:nvSpPr>
        <p:spPr>
          <a:xfrm>
            <a:off x="8458200" y="35812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Oval 32"/>
          <p:cNvSpPr/>
          <p:nvPr/>
        </p:nvSpPr>
        <p:spPr>
          <a:xfrm>
            <a:off x="7848720" y="320040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Oval 33"/>
          <p:cNvSpPr/>
          <p:nvPr/>
        </p:nvSpPr>
        <p:spPr>
          <a:xfrm>
            <a:off x="4267080" y="274320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Oval 34"/>
          <p:cNvSpPr/>
          <p:nvPr/>
        </p:nvSpPr>
        <p:spPr>
          <a:xfrm>
            <a:off x="5181480" y="26668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Oval 35"/>
          <p:cNvSpPr/>
          <p:nvPr/>
        </p:nvSpPr>
        <p:spPr>
          <a:xfrm>
            <a:off x="7391520" y="167652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Oval 36"/>
          <p:cNvSpPr/>
          <p:nvPr/>
        </p:nvSpPr>
        <p:spPr>
          <a:xfrm>
            <a:off x="6934320" y="24382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Oval 37"/>
          <p:cNvSpPr/>
          <p:nvPr/>
        </p:nvSpPr>
        <p:spPr>
          <a:xfrm>
            <a:off x="304920" y="19810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Oval 38"/>
          <p:cNvSpPr/>
          <p:nvPr/>
        </p:nvSpPr>
        <p:spPr>
          <a:xfrm>
            <a:off x="1143000" y="19810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Oval 39"/>
          <p:cNvSpPr/>
          <p:nvPr/>
        </p:nvSpPr>
        <p:spPr>
          <a:xfrm>
            <a:off x="8305920" y="22096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Oval 40"/>
          <p:cNvSpPr/>
          <p:nvPr/>
        </p:nvSpPr>
        <p:spPr>
          <a:xfrm>
            <a:off x="8229600" y="182880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Oval 41"/>
          <p:cNvSpPr/>
          <p:nvPr/>
        </p:nvSpPr>
        <p:spPr>
          <a:xfrm>
            <a:off x="7467480" y="502920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Oval 42"/>
          <p:cNvSpPr/>
          <p:nvPr/>
        </p:nvSpPr>
        <p:spPr>
          <a:xfrm>
            <a:off x="7162920" y="480060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Oval 43"/>
          <p:cNvSpPr/>
          <p:nvPr/>
        </p:nvSpPr>
        <p:spPr>
          <a:xfrm>
            <a:off x="4724280" y="640080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Oval 44"/>
          <p:cNvSpPr/>
          <p:nvPr/>
        </p:nvSpPr>
        <p:spPr>
          <a:xfrm>
            <a:off x="4038480" y="58672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Oval 45"/>
          <p:cNvSpPr/>
          <p:nvPr/>
        </p:nvSpPr>
        <p:spPr>
          <a:xfrm>
            <a:off x="4419720" y="56386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Oval 46"/>
          <p:cNvSpPr/>
          <p:nvPr/>
        </p:nvSpPr>
        <p:spPr>
          <a:xfrm>
            <a:off x="7543800" y="63244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Oval 47"/>
          <p:cNvSpPr/>
          <p:nvPr/>
        </p:nvSpPr>
        <p:spPr>
          <a:xfrm>
            <a:off x="1447920" y="502920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48"/>
          <p:cNvSpPr/>
          <p:nvPr/>
        </p:nvSpPr>
        <p:spPr>
          <a:xfrm>
            <a:off x="1828800" y="54100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thematics Hypertext Pro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step of a very long term proje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for contributors and collabo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is the building of large-scale structures of mathematical tex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5" descr="title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xt on Real Numb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aim for a “comprehensive introduction" to the real numb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l numbers are everywhere dense in mathematic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l numbers have different meanings in different contex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xt on Real Numb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to include on a text on real numbe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ndations and construction of real nu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racterizations of the real numbers by struct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sions and substructures of the real nu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l numbers classified in different way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l numbers are a system related to other syste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1.  Foundations of the Real Number Syste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define real numbers and their basic operations from rationals or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entation of three meth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dekind cuts of rational nu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ce classes of Cauchy sequences of rational nu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e-10 digit sequ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1.  Foundations of the Real Numb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ussion of foundations from John Conway, "On Numbers and Games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3048120" y="51055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5"/>
          <p:cNvSpPr/>
          <p:nvPr/>
        </p:nvSpPr>
        <p:spPr>
          <a:xfrm>
            <a:off x="4267080" y="46483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6"/>
          <p:cNvSpPr/>
          <p:nvPr/>
        </p:nvSpPr>
        <p:spPr>
          <a:xfrm>
            <a:off x="2514600" y="43434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7"/>
          <p:cNvSpPr/>
          <p:nvPr/>
        </p:nvSpPr>
        <p:spPr>
          <a:xfrm>
            <a:off x="3733920" y="388620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8"/>
          <p:cNvSpPr/>
          <p:nvPr/>
        </p:nvSpPr>
        <p:spPr>
          <a:xfrm>
            <a:off x="2057400" y="36576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9"/>
          <p:cNvSpPr/>
          <p:nvPr/>
        </p:nvSpPr>
        <p:spPr>
          <a:xfrm>
            <a:off x="3276720" y="320040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10"/>
          <p:cNvSpPr/>
          <p:nvPr/>
        </p:nvSpPr>
        <p:spPr>
          <a:xfrm flipV="1">
            <a:off x="3429000" y="4876920"/>
            <a:ext cx="7621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11"/>
          <p:cNvSpPr/>
          <p:nvPr/>
        </p:nvSpPr>
        <p:spPr>
          <a:xfrm flipH="1" flipV="1">
            <a:off x="2819520" y="4723920"/>
            <a:ext cx="30456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12"/>
          <p:cNvSpPr/>
          <p:nvPr/>
        </p:nvSpPr>
        <p:spPr>
          <a:xfrm flipH="1" flipV="1">
            <a:off x="4038120" y="4266720"/>
            <a:ext cx="22860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13"/>
          <p:cNvSpPr/>
          <p:nvPr/>
        </p:nvSpPr>
        <p:spPr>
          <a:xfrm flipV="1">
            <a:off x="2895480" y="4114800"/>
            <a:ext cx="83844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14"/>
          <p:cNvSpPr/>
          <p:nvPr/>
        </p:nvSpPr>
        <p:spPr>
          <a:xfrm flipH="1" flipV="1">
            <a:off x="2361960" y="4038120"/>
            <a:ext cx="228600" cy="3049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15"/>
          <p:cNvSpPr/>
          <p:nvPr/>
        </p:nvSpPr>
        <p:spPr>
          <a:xfrm flipV="1">
            <a:off x="2438280" y="3429000"/>
            <a:ext cx="83844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16"/>
          <p:cNvSpPr/>
          <p:nvPr/>
        </p:nvSpPr>
        <p:spPr>
          <a:xfrm flipH="1" flipV="1">
            <a:off x="3580920" y="350532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7-07-06T06:40:41Z</dcterms:modified>
  <cp:revision>3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